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1EF-0270-462F-B02C-B5702521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76D-EB53-4420-879C-34067AE8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993-1550-4C12-8E82-4B217DD6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F79-4E00-4B5E-A45C-BBB305A3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249-96EB-4858-A62C-239B343C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32C-E1E0-4E93-999A-6ACD9FCF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EBB-C370-4650-B84C-A9F486D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E9B-55DB-4DD8-BC3F-3E9844CA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A65-A74C-4080-8AAE-46296FE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546-9876-4EDB-8511-EBACEF9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7A8-A105-4B21-8792-54B834C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A56-6C53-48B7-BC8E-F2CD9BD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6CE3-5EF1-4C58-99AB-7314BAC4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03T14:21:29Z</dcterms:modified>
  <cp:revision>3</cp:revision>
  <dc:subject/>
  <dc:title>Slide 1</dc:title>
</cp:coreProperties>
</file>